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052A-51F3-450C-9361-8D807427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1CE-9752-41D1-8E01-C0F7BC81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4D3-19EC-4EC3-BDD8-9D350D1B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E87-7296-4BE1-B1E6-919F5843B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7E4-DFF0-4DA9-8169-4D5BB692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B9C-92A0-4837-BCE0-0159CC73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8166-41C4-4211-BCCA-5B48063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2CB-0999-4E26-96EE-5F409CE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E403-8D13-49D9-93A8-C5DDB752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ED20-F83F-4912-9A1C-CACD8353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A46-6AEF-45F2-9F23-B111D5A8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FFCB-DA7E-4131-A02F-096E320F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3D9-EFEE-4A6D-AB5D-A1F8D7CA2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228600" y="932040"/>
            <a:ext cx="8381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ist mein(e)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_ heisst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is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e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 ist 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be u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 is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_ wohnt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__ mag ______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n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n Zeichnen MUS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kkur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utli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neat) sein.  Du musst das färb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ine Beschreibung musst au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utli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u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kkur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i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04920" y="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musst ein Tier wählen (choose) und zeichnen (draw).  Du musst auch eine Beschreibung (description) schreibe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28600" y="3657600"/>
            <a:ext cx="7162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 ist w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suche mein(e, en) 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 (läuft, schwimmt, spricht, flieg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… (N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h … (Wohn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ine Telefonnummer ist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 fehlt mi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9:47:31Z</dcterms:created>
  <dc:creator>ahart</dc:creator>
  <dc:description/>
  <dc:language>en-US</dc:language>
  <cp:lastModifiedBy>ahart</cp:lastModifiedBy>
  <dcterms:modified xsi:type="dcterms:W3CDTF">2012-10-23T13:49:03Z</dcterms:modified>
  <cp:revision>3</cp:revision>
  <dc:subject/>
  <dc:title>Slide 1</dc:title>
</cp:coreProperties>
</file>